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A77-07EA-4B4B-B0CC-6907E9E1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13E-91E3-4BAD-9847-98BAB92F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39EF5-757F-423A-BAF1-DBAA3160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1CD04-2C8D-4129-BB2E-68983190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D02D6-A58B-46F6-92EA-575455F6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45968-471A-4A30-B8C5-64110887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10164-6B03-46BD-A398-83831094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323E5-C09A-4274-88F9-7E98387F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C1754-B93B-4E83-8ABB-DC0D0081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D954D-8340-4DCB-9E5B-729CF938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41F15-FD26-4B05-A2B5-D2E84757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5D203-D2AA-47D3-8824-15C28BE9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176-9C3F-4077-B9F7-5FA30C73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B39FD-AC4E-4977-956A-A825C497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75528-5FFB-456E-885F-31A2F9BF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20187-673B-4E78-8883-75F523EE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E004F-D0E3-4368-8FCA-466D4EA8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2A17E-70CB-4B81-984F-9B359CC5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194DE-CF75-4D1E-8D4B-71E77090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24443-DDDB-4AB8-9A72-5E428306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5510F-54EC-4F33-8326-D1881C7B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FF67F-FF88-4EB1-9CCD-96CADC18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EE7E8-2687-4981-85EB-6CDEF58D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3CD-C346-4F11-88F0-6C89CCCD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D3D2D-DFF7-46FC-9527-DE8C8288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C1441-7128-44CA-A820-1C13384B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8CBB3-2F80-4C23-B56B-1A237942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86866-A140-4994-A25D-3CA0E0DF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837A7-F813-4D41-ABD5-97340001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FF6C9-5E4A-41D6-A453-3218B1BB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24FD9-285D-4D42-9B94-BCDAD43B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2F6CF-3D12-4CB5-A167-4A9D2C79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E85CF-FAC9-4D93-8159-9A20A39D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D0FBE-9353-4890-A73F-4F6F5F0E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542D-9BFD-4756-BBAE-F3C41E46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D56B4-78B3-44BB-8F01-01904722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3896A-CB55-4183-8D7B-9EF8F538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70F20-4CB9-4C2A-8619-F4D64DA0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D8167-8850-42CE-9FD9-39D1369E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D23D5-C03F-4B03-9217-06B30C05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3A5C2-6C0C-4DA7-8DE5-1E9A4A36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289BC-D493-45E5-92D8-B85C7DC0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03450-DCEF-4501-803D-65F69A1C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12042-4711-4E0E-BBB5-54C0F90D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23EC6-9B98-4595-BC93-E3B923E9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5EB7-DE25-471D-93B5-BF710509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98335-770E-426C-93AB-92209FD9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81DC9-A5E0-438D-91CF-06573AC5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CBD92-B023-4BBF-A450-C6EAB800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077B9-BB93-40D1-B3D9-F5D088E3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CF1C5-CECA-4918-BE24-030018EA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6D87-4BC4-4857-AD99-F8EF2CE3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EC70-6817-4A5A-B840-B0710447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C356-41F2-41FA-88C8-34DC8679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FE81-F2EB-4F98-BDB9-3EC17AA7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9622-DCF5-4234-A15E-890DF9C6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841-9A01-439F-B0D5-EC67C5B3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5E62-3ECC-445C-843C-13C9F8CF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C477-3801-424D-A5EB-513276D3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2983-2CDF-40C5-840B-D7F241C9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98A6-3DFB-49D8-9865-0C1280C2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3B04-0ECB-4AB2-9F46-1B761AC6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20E7B-6283-46F7-B999-90AC803A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22D87-39BE-481D-BE41-2208FE03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DCDF7-4AC4-4830-A27F-233D527C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04B1B-F396-43B9-8774-5EAD6194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11A62-0411-42A7-9928-ACE1BAB0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6DF-BDBB-421A-8F79-3B05F3A3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19A5E-7058-467C-9FFD-574CB4DF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3F048-26D4-450F-9FAC-080D8625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EF7EA-3130-4559-AC6B-F3A50675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1CA04-0BD5-404A-A0B6-C8E88112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D266-EE26-49F0-9F5A-17A98BEF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D5C45-16AA-4274-9A5B-D9AF52CC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97AED-9A97-4C42-9969-14E63495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766C8-9685-4320-9BA7-A753B149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B65BF-B914-4926-BC2F-AF6A73AA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DDF0A-78F8-4969-9C2A-9FCBFE83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1A0-04B1-4FB6-B006-40028753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1EAAB-7B49-4988-9948-32740EAB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13C51-CB3F-4AF3-9313-A6667C7E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62CE7-5645-4718-8040-B5D55A4F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82A62-D5D5-48AD-BFAF-87DEAF89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70AA9-1F28-4785-BB08-2C7CAD96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D38A1-4879-4001-82F9-F52D5B3C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B3B17-327E-4871-ACD2-54D3FB8F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1AFC5-9B7A-4C7F-92B0-564130A9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029A3-E24E-46FA-B169-7D207F10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81271-DBAD-44FC-8FC2-CE855D97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5718-246D-4B48-8769-8EF858C9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7DD2D-259B-43DE-B41B-D1DEA09D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13989-8C01-4D52-B959-A892A872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02E04-BFB4-4E94-867A-8955E1EB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006CE-3FCE-45F3-965E-BC5774B1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7F614-4862-4613-AC5E-3907E971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D5096-807E-46CC-961E-D53E1FE3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45772-020D-4385-B44D-44904DEB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D0803-245B-4EAE-BC98-BE8D1319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DF421-EF9D-4424-8652-FE6A46F6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7953F-ADE2-49E0-B356-BD3CED3E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78E-D34E-4439-823F-9A626375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67211-CA0E-475F-8C63-346B17C7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E3C1D-0430-49E5-8A94-6E23AF64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54E70-28FC-4141-9715-77784152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DC48B-E351-48D6-A50D-B20FB2C8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0325F-B9A9-4322-B783-D64D50FE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07C62-3C7A-4193-9967-0E3CFC7A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F7730-EC42-4B68-BA4C-839E4CCF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2D65C-148D-42DD-9992-DA237A23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6A2E1-CBCE-47C9-B866-183F8462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0FEAA-2E8C-4086-A49D-A4050B37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2F9-6C0A-44F9-AE73-5164537B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942F5-0306-4AD0-9F68-E9A8A101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E1066-0CCC-4CF2-A0C6-61F5B888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8F37C-0FC7-4BBB-AFA8-9A29450E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BDA16-8C1D-4558-B30B-D1B539A0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5D584-CB56-4911-AA9A-0575A053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C49FC-B7C0-4D51-91A1-9F8C4561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B31C0-167B-4087-8BD0-66CD2927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ACD19-8FFF-40F0-8AE8-25EE635F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298D3-3A4A-428E-8AEF-1F1C2FE0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C7806-FE42-47F9-AFEC-156943DC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D6A-08A7-4AE3-A65D-41F40080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7E652-E68E-47C0-8AC0-80C47B11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CDCDF-E565-4F62-AA60-60A1F059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03C29-5D8B-4C2D-B13E-17BFD98E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F9EB6-53CD-42C7-8012-4189201A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2C635-63C8-498E-8D4B-F0F33793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11414-E328-45D1-BAFE-64818436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8E34D-9DB7-4258-B69B-78485D99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F8CF9-4B75-4C49-8FB8-0E10DEC6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E4EB7-F4C7-4EF0-A528-1390F1E9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DA7FC-1368-42BC-8A98-2D472012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69F-4F17-438D-A842-D3F6E48E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E9355-6F0D-4E24-8D0A-6C6A732B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40B44-83ED-4C7A-A037-2ED84CF4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4AE05-3011-41E3-B1E3-36DFC2DC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DE81D-BDF6-49ED-8E4E-7CFC48C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21649-EB1E-4B10-BE45-555FBB87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5C0D5-B2F6-40CB-987D-FD935DBF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B1515-10DD-45B5-B2D9-99BEC734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64070-6A8D-4F67-8EC2-FFDA4C87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62609-3A7B-43E1-97B3-4F4FD463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6C863-4FE5-45FD-B72C-55B28C21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788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789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789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789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789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789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789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DAD5-2432-4E95-AC22-D93C060CA20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1510-A801-494F-9502-2A0ADB73E28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B8EF-4001-49ED-8A68-73A906CF2BE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3309-6D70-4300-88BD-8F61A7F8996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3891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1" name="椭圆 3891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891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891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891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" name="椭圆 3891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" name="椭圆 3891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DF94-73E3-4C18-8202-B13401C3582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EE22-453B-471A-BABC-9C2AECDB075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DBA7-DCA4-4A07-85C7-0C71123B9D1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AA23-EC5A-4CD9-8E32-1D3BD41D16E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5B6D-37D0-40DE-9FCC-AFDA9E833C8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9129-30AB-4F85-918E-98AE0D0CBDD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5FEE-1F80-4A50-A7A9-A8DFE890E6B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91A4-3B89-4D59-8C5A-4E9CD11EDDB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5" descr=""/>
          <p:cNvPicPr/>
          <p:nvPr/>
        </p:nvPicPr>
        <p:blipFill>
          <a:blip r:embed="rId1"/>
          <a:stretch/>
        </p:blipFill>
        <p:spPr>
          <a:xfrm>
            <a:off x="673200" y="878040"/>
            <a:ext cx="4119480" cy="5359320"/>
          </a:xfrm>
          <a:prstGeom prst="rect">
            <a:avLst/>
          </a:prstGeom>
          <a:ln w="0">
            <a:noFill/>
          </a:ln>
        </p:spPr>
      </p:pic>
      <p:sp>
        <p:nvSpPr>
          <p:cNvPr id="511" name="TextBox 1"/>
          <p:cNvSpPr/>
          <p:nvPr/>
        </p:nvSpPr>
        <p:spPr>
          <a:xfrm>
            <a:off x="2157480" y="709560"/>
            <a:ext cx="5468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b050"/>
                </a:solidFill>
                <a:uFillTx/>
                <a:latin typeface="黑体"/>
              </a:rPr>
              <a:t>  </a:t>
            </a:r>
            <a:r>
              <a:rPr b="0" i="1" lang="en-US" sz="6600" spc="-1" strike="noStrike" u="sng">
                <a:solidFill>
                  <a:srgbClr val="00b050"/>
                </a:solidFill>
                <a:uFillTx/>
                <a:latin typeface="黑体"/>
              </a:rPr>
              <a:t>i u ü y w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3" name="图片 4" descr=""/>
          <p:cNvPicPr/>
          <p:nvPr/>
        </p:nvPicPr>
        <p:blipFill>
          <a:blip r:embed="rId2"/>
          <a:stretch/>
        </p:blipFill>
        <p:spPr>
          <a:xfrm>
            <a:off x="3960720" y="2448000"/>
            <a:ext cx="25545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369200" cy="4924440"/>
          </a:xfrm>
          <a:prstGeom prst="rect">
            <a:avLst/>
          </a:prstGeom>
          <a:ln w="0">
            <a:noFill/>
          </a:ln>
        </p:spPr>
      </p:pic>
      <p:sp>
        <p:nvSpPr>
          <p:cNvPr id="555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558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743880" cy="4981680"/>
          </a:xfrm>
          <a:prstGeom prst="rect">
            <a:avLst/>
          </a:prstGeom>
          <a:ln w="0">
            <a:noFill/>
          </a:ln>
        </p:spPr>
      </p:pic>
      <p:sp>
        <p:nvSpPr>
          <p:cNvPr id="561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065"/>
          <p:cNvPicPr/>
          <p:nvPr/>
        </p:nvPicPr>
        <p:blipFill>
          <a:blip r:embed="rId1"/>
          <a:stretch/>
        </p:blipFill>
        <p:spPr>
          <a:xfrm>
            <a:off x="108000" y="981000"/>
            <a:ext cx="8964720" cy="5345280"/>
          </a:xfrm>
          <a:prstGeom prst="rect">
            <a:avLst/>
          </a:prstGeom>
          <a:ln w="0">
            <a:noFill/>
          </a:ln>
        </p:spPr>
      </p:pic>
      <p:grpSp>
        <p:nvGrpSpPr>
          <p:cNvPr id="564" name=""/>
          <p:cNvGrpSpPr/>
          <p:nvPr/>
        </p:nvGrpSpPr>
        <p:grpSpPr>
          <a:xfrm>
            <a:off x="453960" y="5419800"/>
            <a:ext cx="8497800" cy="360"/>
            <a:chOff x="453960" y="5419800"/>
            <a:chExt cx="8497800" cy="360"/>
          </a:xfrm>
        </p:grpSpPr>
        <p:sp>
          <p:nvSpPr>
            <p:cNvPr id="565" name="Line 2"/>
            <p:cNvSpPr/>
            <p:nvPr/>
          </p:nvSpPr>
          <p:spPr>
            <a:xfrm>
              <a:off x="453960" y="5419800"/>
              <a:ext cx="849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453960" y="5419800"/>
              <a:ext cx="849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66560" y="4786200"/>
            <a:ext cx="8425080" cy="360"/>
            <a:chOff x="466560" y="4786200"/>
            <a:chExt cx="8425080" cy="360"/>
          </a:xfrm>
        </p:grpSpPr>
        <p:sp>
          <p:nvSpPr>
            <p:cNvPr id="568" name="Line 3"/>
            <p:cNvSpPr/>
            <p:nvPr/>
          </p:nvSpPr>
          <p:spPr>
            <a:xfrm>
              <a:off x="466560" y="4786200"/>
              <a:ext cx="8425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466560" y="4786200"/>
              <a:ext cx="842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66560" y="3430440"/>
            <a:ext cx="8425080" cy="360"/>
            <a:chOff x="466560" y="3430440"/>
            <a:chExt cx="8425080" cy="360"/>
          </a:xfrm>
        </p:grpSpPr>
        <p:sp>
          <p:nvSpPr>
            <p:cNvPr id="571" name="Line 4"/>
            <p:cNvSpPr/>
            <p:nvPr/>
          </p:nvSpPr>
          <p:spPr>
            <a:xfrm>
              <a:off x="466560" y="3430440"/>
              <a:ext cx="8425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466560" y="3430440"/>
              <a:ext cx="842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66560" y="4078440"/>
            <a:ext cx="8425080" cy="360"/>
            <a:chOff x="466560" y="4078440"/>
            <a:chExt cx="8425080" cy="360"/>
          </a:xfrm>
        </p:grpSpPr>
        <p:sp>
          <p:nvSpPr>
            <p:cNvPr id="574" name="Line 5"/>
            <p:cNvSpPr/>
            <p:nvPr/>
          </p:nvSpPr>
          <p:spPr>
            <a:xfrm>
              <a:off x="466560" y="4078440"/>
              <a:ext cx="8425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466560" y="4078440"/>
              <a:ext cx="842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6" name="Text Box 6"/>
          <p:cNvSpPr/>
          <p:nvPr/>
        </p:nvSpPr>
        <p:spPr>
          <a:xfrm>
            <a:off x="2808360" y="622440"/>
            <a:ext cx="57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y</a:t>
            </a: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5292720" y="909720"/>
            <a:ext cx="1295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w</a:t>
            </a:r>
            <a:endParaRPr b="0" i="1" lang="en-US" sz="1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106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6936 L -2.77778E-006 0.45479 E">
                                      <p:cBhvr>
                                        <p:cTn id="110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065"/>
          <p:cNvPicPr/>
          <p:nvPr/>
        </p:nvPicPr>
        <p:blipFill>
          <a:blip r:embed="rId1"/>
          <a:stretch/>
        </p:blipFill>
        <p:spPr>
          <a:xfrm>
            <a:off x="108000" y="981000"/>
            <a:ext cx="8964720" cy="534528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2"/>
          <p:cNvSpPr/>
          <p:nvPr/>
        </p:nvSpPr>
        <p:spPr>
          <a:xfrm>
            <a:off x="2286000" y="1758960"/>
            <a:ext cx="64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i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4645080" y="10810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u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7020000" y="93672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u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6372360" y="981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y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3780000" y="1081080"/>
            <a:ext cx="9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w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1812960" y="1527120"/>
            <a:ext cx="72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y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240000" y="2276640"/>
            <a:ext cx="62280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小</a:t>
            </a:r>
            <a:r>
              <a:rPr b="0" i="1" lang="en-US" sz="9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ü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见到</a:t>
            </a:r>
            <a:r>
              <a:rPr b="0" i="1" lang="en-US" sz="9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y</a:t>
            </a: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,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擦掉眼泪笑嘻嘻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矩形 27660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1260360" y="1916280"/>
            <a:ext cx="6973920" cy="4103640"/>
          </a:xfrm>
          <a:prstGeom prst="rect">
            <a:avLst/>
          </a:prstGeom>
          <a:ln w="0">
            <a:noFill/>
          </a:ln>
        </p:spPr>
      </p:pic>
      <p:sp>
        <p:nvSpPr>
          <p:cNvPr id="593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圆角矩形 13"/>
          <p:cNvSpPr/>
          <p:nvPr/>
        </p:nvSpPr>
        <p:spPr>
          <a:xfrm>
            <a:off x="5940360" y="1928880"/>
            <a:ext cx="1944720" cy="1798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圆角矩形 12"/>
          <p:cNvSpPr/>
          <p:nvPr/>
        </p:nvSpPr>
        <p:spPr>
          <a:xfrm>
            <a:off x="3317760" y="1928880"/>
            <a:ext cx="1943280" cy="1798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圆角矩形 1"/>
          <p:cNvSpPr/>
          <p:nvPr/>
        </p:nvSpPr>
        <p:spPr>
          <a:xfrm>
            <a:off x="658800" y="1928880"/>
            <a:ext cx="1944720" cy="1798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384120" y="4727520"/>
            <a:ext cx="8423280" cy="360"/>
            <a:chOff x="384120" y="4727520"/>
            <a:chExt cx="8423280" cy="360"/>
          </a:xfrm>
        </p:grpSpPr>
        <p:sp>
          <p:nvSpPr>
            <p:cNvPr id="599" name="Line 2"/>
            <p:cNvSpPr/>
            <p:nvPr/>
          </p:nvSpPr>
          <p:spPr>
            <a:xfrm>
              <a:off x="384120" y="4727520"/>
              <a:ext cx="842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384120" y="4727520"/>
              <a:ext cx="842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84120" y="5302080"/>
            <a:ext cx="8423280" cy="360"/>
            <a:chOff x="384120" y="5302080"/>
            <a:chExt cx="8423280" cy="360"/>
          </a:xfrm>
        </p:grpSpPr>
        <p:sp>
          <p:nvSpPr>
            <p:cNvPr id="602" name="Line 3"/>
            <p:cNvSpPr/>
            <p:nvPr/>
          </p:nvSpPr>
          <p:spPr>
            <a:xfrm>
              <a:off x="384120" y="5302080"/>
              <a:ext cx="842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384120" y="5302080"/>
              <a:ext cx="842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384120" y="5951520"/>
            <a:ext cx="8496360" cy="360"/>
            <a:chOff x="384120" y="5951520"/>
            <a:chExt cx="8496360" cy="360"/>
          </a:xfrm>
        </p:grpSpPr>
        <p:sp>
          <p:nvSpPr>
            <p:cNvPr id="605" name="Line 4"/>
            <p:cNvSpPr/>
            <p:nvPr/>
          </p:nvSpPr>
          <p:spPr>
            <a:xfrm>
              <a:off x="384120" y="5951520"/>
              <a:ext cx="849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>
              <a:off x="384120" y="5951520"/>
              <a:ext cx="849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96720" y="4078440"/>
            <a:ext cx="8423280" cy="360"/>
            <a:chOff x="396720" y="4078440"/>
            <a:chExt cx="8423280" cy="360"/>
          </a:xfrm>
        </p:grpSpPr>
        <p:sp>
          <p:nvSpPr>
            <p:cNvPr id="608" name="Line 5"/>
            <p:cNvSpPr/>
            <p:nvPr/>
          </p:nvSpPr>
          <p:spPr>
            <a:xfrm>
              <a:off x="396720" y="4078440"/>
              <a:ext cx="8423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396720" y="4078440"/>
              <a:ext cx="842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10" name="Text Box 6"/>
          <p:cNvSpPr/>
          <p:nvPr/>
        </p:nvSpPr>
        <p:spPr>
          <a:xfrm>
            <a:off x="1073160" y="187632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yi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3305160" y="19479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wu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Rectangle 8"/>
          <p:cNvSpPr/>
          <p:nvPr/>
        </p:nvSpPr>
        <p:spPr>
          <a:xfrm>
            <a:off x="6248160" y="1832040"/>
            <a:ext cx="135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yu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971640" y="412272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ff"/>
                </a:solidFill>
                <a:uFillTx/>
                <a:latin typeface="Calibri"/>
                <a:ea typeface="宋体"/>
              </a:rPr>
              <a:t>yi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3359160" y="410688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ff"/>
                </a:solidFill>
                <a:uFillTx/>
                <a:latin typeface="Calibri"/>
                <a:ea typeface="宋体"/>
              </a:rPr>
              <a:t>wu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6134040" y="4102200"/>
            <a:ext cx="135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ff"/>
                </a:solidFill>
                <a:uFillTx/>
                <a:latin typeface="Calibri"/>
                <a:ea typeface="宋体"/>
              </a:rPr>
              <a:t>yu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同侧圆角矩形 1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149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457 L -0.00399 0.44254 E">
                                      <p:cBhvr>
                                        <p:cTn id="153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0.08185 L 0.0059 0.45942 E">
                                      <p:cBhvr>
                                        <p:cTn id="157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161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457 L -0.00399 0.44254 E">
                                      <p:cBhvr>
                                        <p:cTn id="165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0.08185 L 0.0059 0.45942 E">
                                      <p:cBhvr>
                                        <p:cTn id="169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圆角矩形 12"/>
          <p:cNvSpPr/>
          <p:nvPr/>
        </p:nvSpPr>
        <p:spPr>
          <a:xfrm>
            <a:off x="2219400" y="915840"/>
            <a:ext cx="3889440" cy="1200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2771640" y="11923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认一认字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6672240" y="335772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ff"/>
                </a:solidFill>
                <a:uFillTx/>
                <a:latin typeface="Calibri"/>
                <a:ea typeface="宋体"/>
              </a:rPr>
              <a:t>鸭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6672240" y="206064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ff"/>
                </a:solidFill>
                <a:uFillTx/>
                <a:latin typeface="Calibri"/>
                <a:ea typeface="宋体"/>
              </a:rPr>
              <a:t>yā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2" name="图片 2" descr=""/>
          <p:cNvPicPr/>
          <p:nvPr/>
        </p:nvPicPr>
        <p:blipFill>
          <a:blip r:embed="rId1"/>
          <a:stretch/>
        </p:blipFill>
        <p:spPr>
          <a:xfrm>
            <a:off x="611280" y="2373480"/>
            <a:ext cx="4790880" cy="3449520"/>
          </a:xfrm>
          <a:prstGeom prst="rect">
            <a:avLst/>
          </a:prstGeom>
          <a:ln w="0">
            <a:noFill/>
          </a:ln>
        </p:spPr>
      </p:pic>
      <p:sp>
        <p:nvSpPr>
          <p:cNvPr id="623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175" dur="2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179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457 L -0.00399 0.44254 E">
                                      <p:cBhvr>
                                        <p:cTn id="183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圆角矩形 12"/>
          <p:cNvSpPr/>
          <p:nvPr/>
        </p:nvSpPr>
        <p:spPr>
          <a:xfrm>
            <a:off x="3240000" y="1228680"/>
            <a:ext cx="3888000" cy="1200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3780000" y="149076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认一认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6672240" y="3357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00ff"/>
                </a:solidFill>
                <a:uFillTx/>
                <a:latin typeface="Calibri"/>
                <a:ea typeface="宋体"/>
              </a:rPr>
              <a:t>我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6227640" y="216216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 u="sng">
                <a:solidFill>
                  <a:srgbClr val="ff00ff"/>
                </a:solidFill>
                <a:uFillTx/>
                <a:latin typeface="Calibri"/>
                <a:ea typeface="宋体"/>
              </a:rPr>
              <a:t>wǒ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9" name="图片 2" descr=""/>
          <p:cNvPicPr/>
          <p:nvPr/>
        </p:nvPicPr>
        <p:blipFill>
          <a:blip r:embed="rId1"/>
          <a:stretch/>
        </p:blipFill>
        <p:spPr>
          <a:xfrm>
            <a:off x="476280" y="2570040"/>
            <a:ext cx="4753080" cy="3421080"/>
          </a:xfrm>
          <a:prstGeom prst="rect">
            <a:avLst/>
          </a:prstGeom>
          <a:ln w="0">
            <a:noFill/>
          </a:ln>
        </p:spPr>
      </p:pic>
      <p:sp>
        <p:nvSpPr>
          <p:cNvPr id="630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189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193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457 L -0.00399 0.44254 E">
                                      <p:cBhvr>
                                        <p:cTn id="197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dyd"/>
          <p:cNvPicPr/>
          <p:nvPr/>
        </p:nvPicPr>
        <p:blipFill>
          <a:blip r:embed="rId1"/>
          <a:stretch/>
        </p:blipFill>
        <p:spPr>
          <a:xfrm>
            <a:off x="828720" y="1197000"/>
            <a:ext cx="1720800" cy="51912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3"/>
          <p:cNvSpPr/>
          <p:nvPr/>
        </p:nvSpPr>
        <p:spPr>
          <a:xfrm>
            <a:off x="3449160" y="1773360"/>
            <a:ext cx="142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</a:rPr>
              <a:t>读儿歌</a:t>
            </a:r>
            <a:br>
              <a:rPr sz="3200"/>
            </a:b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597040" y="2490840"/>
            <a:ext cx="5232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Calibri"/>
                <a:ea typeface="楷体_GB2312"/>
              </a:rPr>
              <a:t>汉语拼音用处大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Calibri"/>
                <a:ea typeface="楷体_GB2312"/>
              </a:rPr>
              <a:t>学习生字需要它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Calibri"/>
                <a:ea typeface="楷体_GB2312"/>
              </a:rPr>
              <a:t>教我说好普通话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Calibri"/>
                <a:ea typeface="楷体_GB2312"/>
              </a:rPr>
              <a:t>我们决心学好它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5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拓展提升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扫描0002"/>
          <p:cNvPicPr/>
          <p:nvPr/>
        </p:nvPicPr>
        <p:blipFill>
          <a:blip r:embed="rId1"/>
          <a:stretch/>
        </p:blipFill>
        <p:spPr>
          <a:xfrm>
            <a:off x="0" y="981000"/>
            <a:ext cx="9107640" cy="52866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3"/>
          <p:cNvSpPr/>
          <p:nvPr/>
        </p:nvSpPr>
        <p:spPr>
          <a:xfrm>
            <a:off x="6951600" y="906480"/>
            <a:ext cx="86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u</a:t>
            </a:r>
            <a:endParaRPr b="0" i="1" lang="en-US" sz="1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 rot="300000">
            <a:off x="6876720" y="3862440"/>
            <a:ext cx="86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0" spc="-1" strike="noStrike" u="sng">
                <a:solidFill>
                  <a:srgbClr val="ff0000"/>
                </a:solidFill>
                <a:uFillTx/>
                <a:latin typeface="黑体"/>
              </a:rPr>
              <a:t>ü</a:t>
            </a:r>
            <a:endParaRPr b="0" i="1" lang="en-US" sz="1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411280" y="3860640"/>
            <a:ext cx="360" cy="863640"/>
            <a:chOff x="2411280" y="3860640"/>
            <a:chExt cx="360" cy="863640"/>
          </a:xfrm>
        </p:grpSpPr>
        <p:sp>
          <p:nvSpPr>
            <p:cNvPr id="518" name="Line 5"/>
            <p:cNvSpPr/>
            <p:nvPr/>
          </p:nvSpPr>
          <p:spPr>
            <a:xfrm>
              <a:off x="2411280" y="386064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2411280" y="3860640"/>
              <a:ext cx="36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20" name="Oval 6"/>
          <p:cNvSpPr/>
          <p:nvPr/>
        </p:nvSpPr>
        <p:spPr>
          <a:xfrm>
            <a:off x="2340000" y="3645000"/>
            <a:ext cx="14292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文本框 1"/>
          <p:cNvSpPr/>
          <p:nvPr/>
        </p:nvSpPr>
        <p:spPr>
          <a:xfrm rot="480000">
            <a:off x="1431360" y="1631880"/>
            <a:ext cx="693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8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y</a:t>
            </a:r>
            <a:endParaRPr b="0" i="1" lang="en-US" sz="1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文本框 2"/>
          <p:cNvSpPr/>
          <p:nvPr/>
        </p:nvSpPr>
        <p:spPr>
          <a:xfrm>
            <a:off x="3668760" y="1030320"/>
            <a:ext cx="24480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9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w</a:t>
            </a:r>
            <a:endParaRPr b="0" i="1" lang="en-US" sz="23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图片 1" descr=""/>
          <p:cNvPicPr/>
          <p:nvPr/>
        </p:nvPicPr>
        <p:blipFill>
          <a:blip r:embed="rId1"/>
          <a:stretch/>
        </p:blipFill>
        <p:spPr>
          <a:xfrm>
            <a:off x="4408560" y="2610000"/>
            <a:ext cx="4484520" cy="351612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3"/>
          <p:cNvSpPr/>
          <p:nvPr/>
        </p:nvSpPr>
        <p:spPr>
          <a:xfrm>
            <a:off x="3880800" y="9237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b050"/>
                </a:solidFill>
                <a:uFillTx/>
                <a:latin typeface="Arial"/>
                <a:ea typeface="宋体"/>
              </a:rPr>
              <a:t>对韵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422280" y="2060640"/>
            <a:ext cx="52322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仿宋"/>
                <a:ea typeface="仿宋"/>
              </a:rPr>
              <a:t>葡萄架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仿宋"/>
                <a:ea typeface="仿宋"/>
              </a:rPr>
              <a:t>苹果园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仿宋"/>
                <a:ea typeface="仿宋"/>
              </a:rPr>
              <a:t>李苦对瓜甜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3411360" y="2060640"/>
            <a:ext cx="5232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仿宋"/>
                <a:ea typeface="仿宋"/>
              </a:rPr>
              <a:t>风习习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仿宋"/>
                <a:ea typeface="仿宋"/>
              </a:rPr>
              <a:t>雨绵绵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仿宋"/>
                <a:ea typeface="仿宋"/>
              </a:rPr>
              <a:t>地北对天南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1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fuzhuangguanggao2_0269"/>
          <p:cNvPicPr/>
          <p:nvPr/>
        </p:nvPicPr>
        <p:blipFill>
          <a:blip r:embed="rId1"/>
          <a:stretch/>
        </p:blipFill>
        <p:spPr>
          <a:xfrm>
            <a:off x="1403280" y="2133720"/>
            <a:ext cx="4667400" cy="3562200"/>
          </a:xfrm>
          <a:prstGeom prst="rect">
            <a:avLst/>
          </a:prstGeom>
          <a:ln w="0">
            <a:noFill/>
          </a:ln>
        </p:spPr>
      </p:pic>
      <p:sp>
        <p:nvSpPr>
          <p:cNvPr id="526" name="WordArt 3"/>
          <p:cNvSpPr txBox="1"/>
          <p:nvPr/>
        </p:nvSpPr>
        <p:spPr>
          <a:xfrm>
            <a:off x="6227640" y="1413000"/>
            <a:ext cx="12956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uFillTx/>
                <a:latin typeface="Arial"/>
              </a:rPr>
              <a:t>i</a:t>
            </a:r>
            <a:endParaRPr b="1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uFillTx/>
              <a:latin typeface="Arial"/>
              <a:ea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3206880" y="1268280"/>
            <a:ext cx="17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Calibri"/>
                <a:ea typeface="楷体_GB2312"/>
              </a:rPr>
              <a:t>I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Calibri"/>
                <a:ea typeface="楷体_GB2312"/>
              </a:rPr>
              <a:t>上加点 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iii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9584E-006 L -0.36215 -4.49584E-006 E">
                                      <p:cBhvr>
                                        <p:cTn id="27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539640" y="3051000"/>
            <a:ext cx="7921800" cy="288000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4"/>
          <p:cNvSpPr/>
          <p:nvPr/>
        </p:nvSpPr>
        <p:spPr>
          <a:xfrm>
            <a:off x="1503360" y="18208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读“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i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”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时，嘴角展开，牙齿对齐，也叫齐齿“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i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”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1042920" y="757080"/>
            <a:ext cx="6782040" cy="49420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684360" y="48211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给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i</a:t>
            </a: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标声调时，要把点去掉，然后再标调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WordArt 3"/>
          <p:cNvSpPr txBox="1"/>
          <p:nvPr/>
        </p:nvSpPr>
        <p:spPr>
          <a:xfrm>
            <a:off x="4140360" y="3773520"/>
            <a:ext cx="4248000" cy="20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uFillTx/>
                <a:latin typeface="Arial"/>
              </a:rPr>
              <a:t>u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uFillTx/>
              <a:latin typeface="Arial"/>
              <a:ea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771840" y="3114720"/>
            <a:ext cx="209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小小乌龟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uuu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2" name="图片 2" descr=""/>
          <p:cNvPicPr/>
          <p:nvPr/>
        </p:nvPicPr>
        <p:blipFill>
          <a:blip r:embed="rId1"/>
          <a:stretch/>
        </p:blipFill>
        <p:spPr>
          <a:xfrm>
            <a:off x="3924360" y="836640"/>
            <a:ext cx="458136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3506E-006 L -0.46858 -0.09413 E">
                                      <p:cBhvr>
                                        <p:cTn id="54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53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581880" cy="5059080"/>
          </a:xfrm>
          <a:prstGeom prst="rect">
            <a:avLst/>
          </a:prstGeom>
          <a:ln w="0">
            <a:noFill/>
          </a:ln>
        </p:spPr>
      </p:pic>
      <p:sp>
        <p:nvSpPr>
          <p:cNvPr id="544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01080" cy="5096160"/>
          </a:xfrm>
          <a:prstGeom prst="rect">
            <a:avLst/>
          </a:prstGeom>
          <a:ln w="0">
            <a:noFill/>
          </a:ln>
        </p:spPr>
      </p:pic>
      <p:sp>
        <p:nvSpPr>
          <p:cNvPr id="547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2008411133850229_2"/>
          <p:cNvPicPr/>
          <p:nvPr/>
        </p:nvPicPr>
        <p:blipFill>
          <a:blip r:embed="rId1"/>
          <a:stretch/>
        </p:blipFill>
        <p:spPr>
          <a:xfrm>
            <a:off x="1044720" y="1197000"/>
            <a:ext cx="4267080" cy="5075280"/>
          </a:xfrm>
          <a:prstGeom prst="rect">
            <a:avLst/>
          </a:prstGeom>
          <a:ln w="0">
            <a:noFill/>
          </a:ln>
        </p:spPr>
      </p:pic>
      <p:sp>
        <p:nvSpPr>
          <p:cNvPr id="550" name="WordArt 3"/>
          <p:cNvSpPr txBox="1"/>
          <p:nvPr/>
        </p:nvSpPr>
        <p:spPr>
          <a:xfrm>
            <a:off x="5940360" y="2349360"/>
            <a:ext cx="23749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uFillTx/>
                <a:latin typeface="Arial"/>
              </a:rPr>
              <a:t>ü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uFillTx/>
              <a:latin typeface="Arial"/>
              <a:ea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5388480" y="119700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小鱼吐泡</a:t>
            </a: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üüü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1:40:14Z</dcterms:created>
  <dc:creator/>
  <dc:description/>
  <dc:language>en-US</dc:language>
  <cp:lastModifiedBy>万润仪器贸易公司</cp:lastModifiedBy>
  <dcterms:modified xsi:type="dcterms:W3CDTF">2020-08-24T01:40:21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